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85D-20EE-4CF6-80EF-D5712A02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D30-4876-4D94-8CF9-D4855EF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EB85-217D-45D7-A5DB-DBBC239C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407-E9AF-425B-82F3-DC12A90D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7D6-E79E-48CD-85A5-DD7A5CCB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234-ECFA-4AD5-963A-7262F4BE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088-C68E-42DB-900E-02AE5B8F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B0D2-D5E8-4ABC-8244-B23358A1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1BC-4378-466E-8F59-1ADDF639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162-DAB0-4B69-A938-6968DB7C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661-89B9-4EC9-B0FD-56D29548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FC5-49E6-48A5-BA8A-180A9F59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77A6-2F40-471F-87F8-B9AF32555AC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historylearningsite.co.uk/" TargetMode="External"/><Relationship Id="rId3" Type="http://schemas.openxmlformats.org/officeDocument/2006/relationships/hyperlink" Target="http://www.spartacus.schoolnet.co.uk/" TargetMode="External"/><Relationship Id="rId4" Type="http://schemas.openxmlformats.org/officeDocument/2006/relationships/hyperlink" Target="http://www.britannica.com/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library.usu.edu/Specol/digitalexhibits/masaryk/images/swasti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04920" y="2057400"/>
            <a:ext cx="228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0492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entury"/>
              </a:rPr>
              <a:t>If you tell a lie, tell a big one.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666880" y="1295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 Antiqua"/>
              </a:rPr>
              <a:t>Joseph Goebbel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8600" y="1905120"/>
            <a:ext cx="228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L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F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"/>
              </a:rPr>
              <a:t>E</a:t>
            </a:r>
            <a:endParaRPr b="0" lang="en-US" sz="6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295280" y="2209680"/>
            <a:ext cx="746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Born on October 29,1897 in Rheydt, in the Rhineland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Died, April 1945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Under five feet tal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Had a limp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Went to Roman Catholic schoo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ttended  Heidelberg Univers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Doctorate of philosophy in 192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Could not participate in the First World War, due to clubfoo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Later on, he told people his limp was due to an injury sustained in WWI, although it was really due to contracting polio as a ch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00400" y="1599840"/>
            <a:ext cx="5486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Goebbels joined the NSDAP in 192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Hitler gave him the task of building up support in Berl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He was later appointed as Minister for Public Enlightenment and Propagand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Was a very powerful orator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3" name="Picture 2" descr="http://www.hitler.org/posters/fuhrer1.jpg"/>
          <p:cNvPicPr/>
          <p:nvPr/>
        </p:nvPicPr>
        <p:blipFill>
          <a:blip r:embed="rId2"/>
          <a:stretch/>
        </p:blipFill>
        <p:spPr>
          <a:xfrm>
            <a:off x="0" y="2286000"/>
            <a:ext cx="316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May 10, 1933 Goebbels staged the infamous “book-burning”; pieces of Jewish, Marxist, and other “undesirable” work were piled and burned in a bonfi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Organized </a:t>
            </a:r>
            <a:r>
              <a:rPr b="0" i="1" lang="en-US" sz="2800" spc="-1" strike="noStrike">
                <a:solidFill>
                  <a:srgbClr val="ff0000"/>
                </a:solidFill>
                <a:latin typeface="Book Antiqua"/>
              </a:rPr>
              <a:t>Kristallnacht on November 9-10, 193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Was a chief secret abettor for deporting Jews from Berl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In charge of morale boosts and propagand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2" descr="http://www.owlnet.rice.edu/~rar4619/Images/Goebbels.jpg"/>
          <p:cNvPicPr/>
          <p:nvPr/>
        </p:nvPicPr>
        <p:blipFill>
          <a:blip r:embed="rId2"/>
          <a:stretch/>
        </p:blipFill>
        <p:spPr>
          <a:xfrm>
            <a:off x="304920" y="3276720"/>
            <a:ext cx="2381040" cy="31906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048120" y="3809880"/>
            <a:ext cx="3809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Appointed Reich Commissioner for Total Mobilization after the German defeat at Stalingr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He had his children poisoned with lethal inje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He commanded an SS officer to shoot him and his wife, May 1, 194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533520" y="3962520"/>
            <a:ext cx="761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Book Antiqua"/>
              </a:rPr>
              <a:t>"We shall go down in history as the greatest statesmen of all time, or as the greatest criminals."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ww.historylearningsite.co.u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www.spartacus.schoolnet.co.u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www.britannica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Book Antiqua"/>
              </a:rPr>
              <a:t>www.jewishvirtuallibrary.or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2" descr="http://courses.cit.cornell.edu/his452/Alcohol/2107.jpg"/>
          <p:cNvPicPr/>
          <p:nvPr/>
        </p:nvPicPr>
        <p:blipFill>
          <a:blip r:embed="rId5"/>
          <a:stretch/>
        </p:blipFill>
        <p:spPr>
          <a:xfrm>
            <a:off x="2590920" y="3657600"/>
            <a:ext cx="2333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04:48Z</dcterms:created>
  <dc:creator> </dc:creator>
  <dc:description/>
  <dc:language>en-US</dc:language>
  <cp:lastModifiedBy> </cp:lastModifiedBy>
  <dcterms:modified xsi:type="dcterms:W3CDTF">2009-11-25T17:07:30Z</dcterms:modified>
  <cp:revision>17</cp:revision>
  <dc:subject/>
  <dc:title>Slide 1</dc:title>
</cp:coreProperties>
</file>